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95157-0EBD-4337-8C0C-8D1EFC5439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574EB-9773-4FAA-9800-7C5D0849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10B109-C3E3-4476-91FD-AE2951EA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D57D6B-ACAF-4544-993B-3D953FA7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0A89B7-4313-41E4-959C-94BAD15A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CF3610-510E-4D52-92D1-90B3DE9A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3AD970-694D-4E46-A46F-78341E99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450426-57C7-48A0-89AE-52F3965F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E171ED-B99E-44D5-8928-97E0AAB7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1435B9-50F9-40CC-9E19-7193820F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B0A21B-F2E1-4274-BD1D-4E304F85C2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D65190-C768-4526-B781-BA2C2298D7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5B443-4189-434B-BF17-2AF5A0CC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25BEB0-FAAD-435C-A24A-A5C25AE9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9F749B-2446-419B-8CC9-988A50C1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DF380E-9BFE-4C0C-A6BD-AA806F74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DFFF9A-0AAF-4962-97FE-86A316F7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80E7CA-D236-4D57-888A-E0F965A9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5A5A42-F977-4799-BF6E-99A7CD40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9DBD20-2EAA-494D-A1B0-D2666875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E78549-5F49-4D61-9279-F050C020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09112A-EB40-453B-827A-F91E57C2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8DB2AD-1C06-4F4F-9C99-BD878329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F06E-F1F2-4B9C-9D79-DAEC7A899D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D1FD08-827F-4A84-AAC0-E96F6CEC62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1D1309-F3A0-4282-AE88-AE8A1CD0B4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BA7142-31CF-4EEB-BDB8-E43DF8DE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EA8D03-D09C-46CF-93AB-F1B0540E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B8D957-024C-4CDC-B375-F6DADDE1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D83600-8918-4A95-BE6E-8BBEF39B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D3707A-DCA0-4E1B-962B-B51C7172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9F7AF0-D239-4E80-8D82-5B42FE26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D704E1-BB1C-4BEB-84DC-9BB70610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C17C82-EBFF-40F4-8023-AB8EC0CD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7D55A-EB73-40EE-A04E-C375D1DB58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1532A6-1BDD-4C86-8538-CAAAA77D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5C1B4E-608E-44B7-96FD-8D60B20D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846B88-9515-49CD-A9F9-E2F5979059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C887F0-6F4C-4DB7-AD07-56F1616060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F61FB2-253A-41BA-BC48-AA5BE69A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C6F423-42FA-4ABC-AA8E-7004DEC7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26C9BD-FE55-459A-B077-36A78E18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00AA31-7A1A-4BFF-B9CD-0EA8DE78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439FE5-BABC-428E-AA00-083D509B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AD8833-D64F-494D-88B7-876DDA04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66CAA-29A2-429E-AD33-326DE549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5E346D-D659-49C4-BDC7-B28CFEA1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758671-AE86-44BF-9622-56C048C2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10ACCB-6F05-475F-BE2F-F8A9949A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CC231E-D891-4CB2-BC9E-2E031ACC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ADFD86-91CF-4343-9C7A-07DBB5BDB4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7D030-CF9D-43E0-8F87-892EC404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0CBFE-3DDC-4260-A829-58DC055E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49B04-397A-4ECD-A1C7-D26D5B42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70146-91C4-4F3C-9726-3C865609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71878-CDE3-4232-8394-6B26928E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17E12-159F-4A32-99D6-E4EE19C6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66C67-D84F-48CA-A9AE-DF8C90D5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EC085-8F3D-4136-BE29-BC379D9F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74B6C-DB42-4CD1-9188-B384A2FD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4F02D-F0A9-4885-BDAA-3DFE2942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72809-CEAD-4A8E-A869-4188D7A91C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E21A-E127-404D-B241-1355B8D321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2999-0C1A-410B-AF46-4AD515CB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0574-315B-4E0D-BA9C-D7EE411A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6BEB-70F4-414F-B1A5-88C5E47E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B0C2-A779-4AB6-ACC2-2ECC9DA3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7EF71-E648-40F7-8937-8DE62163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C26C-B18A-4066-BEEA-7746F233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9813-461C-40FD-A554-8A9174CD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0058-97CD-4ADF-A0A9-7F85D9B9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1FE5-F70C-4CD9-A725-0ED600F0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7DC9-6E3B-4748-B992-620038AD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831C-73C1-417A-8A83-15CD2521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3D3E-BDA3-4DBD-A54F-83A240FC30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51D1A-EAF8-4CDA-AF44-0EB6056AED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90A2B-FF14-4C03-8441-B09E0BB8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03135-0769-48C8-B2D2-2D7678B4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616A0-4434-4C87-8EA5-CA80AC0E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31B60-BF97-4518-8484-9AFBB860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380FA8-D9EC-429D-B88F-07A8B588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E2E91-5F5F-4BD0-A377-D9555119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A11ED-08F4-4A30-B077-ED6EA84B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69441-F233-4A86-BC46-4762CAC3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D8932-5EEB-46B3-A53C-21BDAD36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DB56F-6DB6-473D-B6DB-F8E489D7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A32BF-C73A-4F4F-B550-78029B90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6A747-FE57-44E8-AAA1-CFED127048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99846C-F525-4AAE-89D4-E075EC9455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D1A18-3549-46AF-BB5C-4E2B2500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878632-ECC9-44C8-99E0-62419061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D6CAF1-76A3-4A0D-B443-51E66C66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E7368E-66EE-4274-ABBF-53535F16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1C08AA-F8CA-4EC6-ABC4-8783D3C2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C08742-9423-49D1-8096-5FEBC055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F68E8D-04A5-480D-8CA9-D663D406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580F06-5D5E-49C2-B254-21B464AF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98D4A8-6CC6-4B39-8CDF-E899833E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9A560D-52B4-49A6-AAB6-419B342B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BF7A05-F670-46AB-ABEF-4B739212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F8A9C-E624-4CEE-8033-42393F96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FA92E5-C219-4D0D-8114-89416847AD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22A59-245D-4249-92D1-16BD7EA646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59690-24BA-4746-B92C-BC2747F6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B5025-827D-47BE-9213-641FF83D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30CC3-79E4-417A-AA2B-316D4829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C99EC-30EF-4B39-98E4-E99FA18D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8E7B9-6285-4374-BA06-05F48980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968A0-6402-41F8-B845-9D2F076E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3E125-58E2-4B7B-8ADF-FB76B393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12BA7-FEE6-4461-9119-F064ACA7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50D8E-85CB-4B53-BB60-450C1527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7666A-6B4E-41D8-9243-F0C9F165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7AC46-EF6D-489C-957C-BBB789F2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BA001-2629-4224-9E4B-5232C1D6F8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F2DB32-9D6C-4401-8B8D-038C7203E0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74D9CB-74FE-4A8A-9B7D-96A44661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15322-50B1-4589-8A38-698C17A2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95878C-1234-40FD-A0E2-2AC3E805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76FEA7-C1C2-449E-989F-854BC624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5A8504-3CF0-4F36-A0B3-85440638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B9949B-25A2-42F4-B12E-35FF7E7E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6B827-41CB-467A-A3A2-5992C8B6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FFEED9-BCB0-4205-AB5A-4A67D303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F12E09-4903-45D6-9DE8-7000A400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B98D78-8403-477C-AD02-F42AE61C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E1C5DD-7E08-4637-BEC6-620133AC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AF934-061E-4598-BAE7-E5C9A96119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4CAE2C-4987-4092-ABE0-DEAC85C8C8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E815D5-F123-4D66-B421-F82A381B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122254-DB44-4C42-BF08-74163DBB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724493-D4DC-4333-8980-B8208329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578AF5-B7B5-4878-ABFE-2572FFD1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F94FE-AABC-4129-988A-83922F5A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223BC3-48F5-4AEE-B4CF-6DBFE7E5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3FA91F-2C98-43D2-BBE6-C01E923E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D73B81-2951-409A-8675-78731B7E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790A36-1862-4F4D-9EA7-51C6F8CB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F2567A-6843-4232-824A-66A382F0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E2C8CC-F08C-45F8-BE4A-64D26301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057D67-4B66-4C5A-BBB8-7317C7C8B2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4B6AF9-7963-4097-8264-8F6E1074F1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A02397-5166-4542-A949-4C915FDB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E5403A-B7BF-41D8-B7A1-2BD1FD16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ldNum" idx="2"/>
          </p:nvPr>
        </p:nvSpPr>
        <p:spPr>
          <a:xfrm>
            <a:off x="4343400" y="103968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D112015-396B-4CF5-ACF2-F8D53BDABC5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52280" y="533520"/>
            <a:ext cx="8832960" cy="1440"/>
          </a:xfrm>
          <a:prstGeom prst="line">
            <a:avLst/>
          </a:prstGeom>
          <a:ln w="1152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19"/>
          </p:nvPr>
        </p:nvSpPr>
        <p:spPr>
          <a:xfrm>
            <a:off x="1371600" y="312480"/>
            <a:ext cx="455760" cy="43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7b9899"/>
                </a:solidFill>
                <a:latin typeface="Georg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E6675E-6FBB-48F0-86CF-546907A7CB5E}" type="slidenum">
              <a:rPr b="0" lang="en-US" sz="1600" spc="-1" strike="noStrike">
                <a:solidFill>
                  <a:srgbClr val="7b9899"/>
                </a:solidFill>
                <a:latin typeface="Georg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0"/>
          </p:nvPr>
        </p:nvSpPr>
        <p:spPr>
          <a:xfrm>
            <a:off x="578772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DejaVu Sans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01680" y="6410160"/>
            <a:ext cx="3584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1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DejaVu Sans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2"/>
          </p:nvPr>
        </p:nvSpPr>
        <p:spPr>
          <a:xfrm>
            <a:off x="4343400" y="103968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7b9899"/>
                </a:solidFill>
                <a:latin typeface="Georg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945E61-6528-42E8-9424-BABE5D1B31E4}" type="slidenum">
              <a:rPr b="0" lang="en-US" sz="1600" spc="-1" strike="noStrike">
                <a:solidFill>
                  <a:srgbClr val="7b9899"/>
                </a:solidFill>
                <a:latin typeface="Georg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143840" y="155520"/>
            <a:ext cx="1440" cy="624528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23"/>
          </p:nvPr>
        </p:nvSpPr>
        <p:spPr>
          <a:xfrm>
            <a:off x="6914880" y="3009600"/>
            <a:ext cx="455400" cy="43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7b9899"/>
                </a:solidFill>
                <a:latin typeface="Georg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24DADD-AB17-4209-B4F5-FE3D6399F461}" type="slidenum">
              <a:rPr b="0" lang="en-US" sz="1600" spc="-1" strike="noStrike">
                <a:solidFill>
                  <a:srgbClr val="7b9899"/>
                </a:solidFill>
                <a:latin typeface="Georg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24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DejaVu Sans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5520" y="2419200"/>
            <a:ext cx="8832960" cy="1800"/>
          </a:xfrm>
          <a:prstGeom prst="line">
            <a:avLst/>
          </a:prstGeom>
          <a:ln w="1152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DejaVu Sans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4343400" y="219852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7b9899"/>
                </a:solidFill>
                <a:latin typeface="Georg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70BBA1-2FCF-4F09-B5AE-17627A495CAB}" type="slidenum">
              <a:rPr b="0" lang="en-US" sz="1600" spc="-1" strike="noStrike">
                <a:solidFill>
                  <a:srgbClr val="7b9899"/>
                </a:solidFill>
                <a:latin typeface="Georg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DejaVu Sans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4362480" y="102708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7b9899"/>
                </a:solidFill>
                <a:latin typeface="Georg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4D0647-2CC0-4C7F-B587-F90A4380D645}" type="slidenum">
              <a:rPr b="0" lang="en-US" sz="1600" spc="-1" strike="noStrike">
                <a:solidFill>
                  <a:srgbClr val="7b9899"/>
                </a:solidFill>
                <a:latin typeface="Georg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2438280"/>
            <a:ext cx="8832960" cy="1800"/>
          </a:xfrm>
          <a:prstGeom prst="line">
            <a:avLst/>
          </a:prstGeom>
          <a:ln w="1152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DejaVu Sans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8"/>
          </p:nvPr>
        </p:nvSpPr>
        <p:spPr>
          <a:xfrm>
            <a:off x="4343400" y="219852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7b9899"/>
                </a:solidFill>
                <a:latin typeface="Georg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0A471B-575E-46F3-A7E5-54B398D1714F}" type="slidenum">
              <a:rPr b="0" lang="en-US" sz="1600" spc="-1" strike="noStrike">
                <a:solidFill>
                  <a:srgbClr val="7b9899"/>
                </a:solidFill>
                <a:latin typeface="Georg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562640" y="1574280"/>
            <a:ext cx="9360" cy="4821480"/>
          </a:xfrm>
          <a:prstGeom prst="line">
            <a:avLst/>
          </a:prstGeom>
          <a:ln w="9360">
            <a:solidFill>
              <a:srgbClr val="646b8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9"/>
          </p:nvPr>
        </p:nvSpPr>
        <p:spPr>
          <a:xfrm>
            <a:off x="5790960" y="641016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DejaVu Sans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0"/>
          </p:nvPr>
        </p:nvSpPr>
        <p:spPr>
          <a:xfrm>
            <a:off x="4343400" y="103968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7b9899"/>
                </a:solidFill>
                <a:latin typeface="Georg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511210-3B7C-4E0A-8E2B-F6574BE86E82}" type="slidenum">
              <a:rPr b="0" lang="en-US" sz="1600" spc="-1" strike="noStrike">
                <a:solidFill>
                  <a:srgbClr val="7b9899"/>
                </a:solidFill>
                <a:latin typeface="Georg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 flipV="1">
            <a:off x="4572000" y="2198520"/>
            <a:ext cx="1440" cy="4191120"/>
          </a:xfrm>
          <a:prstGeom prst="line">
            <a:avLst/>
          </a:prstGeom>
          <a:ln w="9360">
            <a:solidFill>
              <a:srgbClr val="646b8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1279440"/>
            <a:ext cx="8832960" cy="1800"/>
          </a:xfrm>
          <a:prstGeom prst="line">
            <a:avLst/>
          </a:prstGeom>
          <a:ln w="1152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1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DejaVu Sans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2"/>
          </p:nvPr>
        </p:nvSpPr>
        <p:spPr>
          <a:xfrm>
            <a:off x="4343400" y="104292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7b9899"/>
                </a:solidFill>
                <a:latin typeface="Georg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DE73A3-0FB6-4510-A372-0237FAFCE754}" type="slidenum">
              <a:rPr b="0" lang="en-US" sz="1600" spc="-1" strike="noStrike">
                <a:solidFill>
                  <a:srgbClr val="7b9899"/>
                </a:solidFill>
                <a:latin typeface="Georg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DejaVu Sans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4"/>
          </p:nvPr>
        </p:nvSpPr>
        <p:spPr>
          <a:xfrm>
            <a:off x="4343400" y="1036440"/>
            <a:ext cx="455760" cy="43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7b9899"/>
                </a:solidFill>
                <a:latin typeface="Georg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505CB0-FCC9-4A05-8AF5-D4FC159B3703}" type="slidenum">
              <a:rPr b="0" lang="en-US" sz="1600" spc="-1" strike="noStrike">
                <a:solidFill>
                  <a:srgbClr val="7b9899"/>
                </a:solidFill>
                <a:latin typeface="Georg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5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DejaVu Sans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16"/>
          </p:nvPr>
        </p:nvSpPr>
        <p:spPr>
          <a:xfrm>
            <a:off x="4266720" y="6324480"/>
            <a:ext cx="60804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54087C-B7F6-4FFC-B4F7-B70C97DF71F2}" type="slidenum">
              <a:rPr b="0" lang="en-US" sz="1600" spc="-1" strike="noStrike">
                <a:solidFill>
                  <a:srgbClr val="ffffff"/>
                </a:solidFill>
                <a:latin typeface="Georg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533520"/>
            <a:ext cx="8832960" cy="1440"/>
          </a:xfrm>
          <a:prstGeom prst="line">
            <a:avLst/>
          </a:prstGeom>
          <a:ln w="1152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17"/>
          </p:nvPr>
        </p:nvSpPr>
        <p:spPr>
          <a:xfrm>
            <a:off x="1371600" y="312480"/>
            <a:ext cx="455760" cy="43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7b9899"/>
                </a:solidFill>
                <a:latin typeface="Georg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32AE99-4262-47C2-A79C-198FE71C6376}" type="slidenum">
              <a:rPr b="0" lang="en-US" sz="1600" spc="-1" strike="noStrike">
                <a:solidFill>
                  <a:srgbClr val="7b9899"/>
                </a:solidFill>
                <a:latin typeface="Georg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18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DejaVu Sans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1680" y="6410160"/>
            <a:ext cx="3382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37944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American Food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halkduster"/>
                <a:ea typeface="Chalkduster"/>
              </a:rPr>
              <a:t>Stereotypical American Food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3276720" y="1417680"/>
            <a:ext cx="2844720" cy="2095560"/>
            <a:chOff x="3276720" y="1417680"/>
            <a:chExt cx="2844720" cy="2095560"/>
          </a:xfrm>
        </p:grpSpPr>
        <p:pic>
          <p:nvPicPr>
            <p:cNvPr id="610" name="" descr=""/>
            <p:cNvPicPr/>
            <p:nvPr/>
          </p:nvPicPr>
          <p:blipFill>
            <a:blip r:embed="rId1"/>
            <a:stretch/>
          </p:blipFill>
          <p:spPr>
            <a:xfrm>
              <a:off x="3276720" y="1417680"/>
              <a:ext cx="284472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3276720" y="1417680"/>
              <a:ext cx="2844720" cy="20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301680" y="1417680"/>
            <a:ext cx="2514600" cy="323856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3"/>
          <a:stretch/>
        </p:blipFill>
        <p:spPr>
          <a:xfrm>
            <a:off x="3276720" y="3809880"/>
            <a:ext cx="3492360" cy="23241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769080" y="1905120"/>
            <a:ext cx="20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Hambur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Hot 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French f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Fast F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halkduster"/>
                <a:ea typeface="Chalkduster"/>
              </a:rPr>
              <a:t>Food with my Famil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57200" y="1417680"/>
            <a:ext cx="2666880" cy="3556080"/>
            <a:chOff x="457200" y="1417680"/>
            <a:chExt cx="2666880" cy="3556080"/>
          </a:xfrm>
        </p:grpSpPr>
        <p:pic>
          <p:nvPicPr>
            <p:cNvPr id="617" name="" descr=""/>
            <p:cNvPicPr/>
            <p:nvPr/>
          </p:nvPicPr>
          <p:blipFill>
            <a:blip r:embed="rId1"/>
            <a:stretch/>
          </p:blipFill>
          <p:spPr>
            <a:xfrm>
              <a:off x="457200" y="1417680"/>
              <a:ext cx="2666880" cy="35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457200" y="1417680"/>
              <a:ext cx="2666880" cy="35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6019920" y="1244520"/>
            <a:ext cx="2666880" cy="355608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2666880" y="3543480"/>
            <a:ext cx="3911760" cy="29336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3352680" y="1676520"/>
            <a:ext cx="243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Vege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Sa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Bread/Noodle d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Fish/M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57200" y="4973760"/>
            <a:ext cx="210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We definitely don’t eat as much ham or p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578640" y="4973760"/>
            <a:ext cx="22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Chicken and beef are more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57200" y="274680"/>
            <a:ext cx="4191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halkduster"/>
                <a:ea typeface="Chalkduster"/>
              </a:rPr>
              <a:t>Sweets</a:t>
            </a:r>
            <a:r>
              <a:rPr b="0" lang="en-US" sz="3300" spc="-1" strike="noStrike">
                <a:solidFill>
                  <a:srgbClr val="7b9899"/>
                </a:solidFill>
                <a:latin typeface="Arial Black"/>
                <a:ea typeface="Arial Black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457200" y="1417680"/>
            <a:ext cx="3595680" cy="2697120"/>
            <a:chOff x="457200" y="1417680"/>
            <a:chExt cx="3595680" cy="2697120"/>
          </a:xfrm>
        </p:grpSpPr>
        <p:pic>
          <p:nvPicPr>
            <p:cNvPr id="626" name="" descr=""/>
            <p:cNvPicPr/>
            <p:nvPr/>
          </p:nvPicPr>
          <p:blipFill>
            <a:blip r:embed="rId1"/>
            <a:stretch/>
          </p:blipFill>
          <p:spPr>
            <a:xfrm>
              <a:off x="457200" y="1417680"/>
              <a:ext cx="3595680" cy="26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457200" y="1417680"/>
              <a:ext cx="3595680" cy="26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8" name="" descr=""/>
          <p:cNvPicPr/>
          <p:nvPr/>
        </p:nvPicPr>
        <p:blipFill>
          <a:blip r:embed="rId2"/>
          <a:stretch/>
        </p:blipFill>
        <p:spPr>
          <a:xfrm>
            <a:off x="3886200" y="2743200"/>
            <a:ext cx="2724120" cy="362736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5562720" y="6094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457200" y="480060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duster"/>
                <a:ea typeface="Chalkduster"/>
              </a:rPr>
              <a:t>C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duster"/>
                <a:ea typeface="Chalkduster"/>
              </a:rPr>
              <a:t>Cupc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610320" y="3886200"/>
            <a:ext cx="23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duster"/>
                <a:ea typeface="Chalkduster"/>
              </a:rPr>
              <a:t>Cook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duster"/>
                <a:ea typeface="Chalkduster"/>
              </a:rPr>
              <a:t>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halkduster"/>
                <a:ea typeface="Chalkduster"/>
              </a:rPr>
              <a:t>Breakfast, Lunch, Dinn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301680" y="1527120"/>
            <a:ext cx="2684520" cy="3578400"/>
            <a:chOff x="301680" y="1527120"/>
            <a:chExt cx="2684520" cy="3578400"/>
          </a:xfrm>
        </p:grpSpPr>
        <p:pic>
          <p:nvPicPr>
            <p:cNvPr id="634" name="" descr=""/>
            <p:cNvPicPr/>
            <p:nvPr/>
          </p:nvPicPr>
          <p:blipFill>
            <a:blip r:embed="rId1"/>
            <a:stretch/>
          </p:blipFill>
          <p:spPr>
            <a:xfrm>
              <a:off x="301680" y="1527120"/>
              <a:ext cx="2684520" cy="35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301680" y="1527120"/>
              <a:ext cx="2684520" cy="357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776160" y="5564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3276720" y="1436760"/>
            <a:ext cx="2679480" cy="366876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3581280" y="5472000"/>
            <a:ext cx="26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duster"/>
                <a:ea typeface="Chalkduster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5854680" y="1527120"/>
            <a:ext cx="2981520" cy="35784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6568920" y="5410080"/>
            <a:ext cx="257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duster"/>
                <a:ea typeface="Chalkduster"/>
              </a:rPr>
              <a:t>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halkduster"/>
                <a:ea typeface="Chalkduster"/>
              </a:rPr>
              <a:t>Multicultural Food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halkduster"/>
                <a:ea typeface="Chalkduster"/>
              </a:rPr>
              <a:t>People who are originally from all over the world live in the United States and bring the food of their culture ther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halkduster"/>
                <a:ea typeface="Chalkduster"/>
              </a:rPr>
              <a:t>Chinese Food, Italian Food, Indian Food, Middle Eastern/Mediterranean food, African food (especially Ethiopian and Moroccan), and Mexican foo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01680" y="228600"/>
            <a:ext cx="1603440" cy="106668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7243920" y="5578560"/>
            <a:ext cx="1562040" cy="104148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3"/>
          <a:stretch/>
        </p:blipFill>
        <p:spPr>
          <a:xfrm>
            <a:off x="301680" y="5578560"/>
            <a:ext cx="1638360" cy="109224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4"/>
          <a:stretch/>
        </p:blipFill>
        <p:spPr>
          <a:xfrm>
            <a:off x="7213680" y="228600"/>
            <a:ext cx="1592280" cy="11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halkduster"/>
                <a:ea typeface="Chalkduster"/>
              </a:rPr>
              <a:t>Ques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halkduster"/>
                <a:ea typeface="Chalkduster"/>
              </a:rPr>
              <a:t>What is one difference between the food in Spain and the food in the United State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halkduster"/>
                <a:ea typeface="Chalkduster"/>
              </a:rPr>
              <a:t>What is different about the size of the meals in the United States versus the size of the meals in Spai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halkduster"/>
                <a:ea typeface="Chalkduster"/>
              </a:rPr>
              <a:t>Have you ever had American food? What did you ea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9:06:16Z</dcterms:created>
  <dc:creator>Justin</dc:creator>
  <dc:description/>
  <dc:language>en-US</dc:language>
  <cp:lastModifiedBy>Justin</cp:lastModifiedBy>
  <dcterms:modified xsi:type="dcterms:W3CDTF">2010-10-25T20:50:28Z</dcterms:modified>
  <cp:revision>185</cp:revision>
  <dc:subject/>
  <dc:title>American Food </dc:title>
</cp:coreProperties>
</file>